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52D2-BFEF-47B4-B876-C1ABBC86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B12-91EE-470F-92C3-7F19E6C2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511-4EDC-4380-86E3-365E0F7C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A9F-2CC5-4492-9E92-7BA36F72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1342-77AC-44D7-81B2-888ECFCA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AE57-8A75-4AF4-BE52-1472827C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56A2-D10D-410D-94D4-F1415ED0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0517-5097-456C-88A6-E5C3A627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CEDA-D648-40CD-AE64-4E48BBB8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A5F1-5DB1-48FE-A01C-37902B18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1556-EF0B-4DDB-8282-F583F65B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C5BA-FDC7-450C-BA8C-64871626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2847-E5B6-4FC0-9B2C-AD28ED8C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CFFC-2060-406C-84B2-E82906A5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CFF5-8673-4DA1-9E0D-FC6752BF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E91D-0322-471B-8A97-CC181644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1377-3ABB-420E-850F-8002D3E1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44546-006E-4036-A0E3-BD7C434E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92A29-7896-41F5-A2E7-DF4C3D63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79D6F-5DE3-496A-984D-10FF0249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F6DF9-40B6-4731-9914-31C224CF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CB738-4F1B-4940-B110-A7696979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CF3-BBDA-47D4-9C07-5F2E78C7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5EF32-B24A-4895-884F-B61CB220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83A11-1B07-4DD5-A946-BBFA3288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7BE9D-B678-48B8-A85C-C000625F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3F945-697C-4BED-87A1-E81DEC23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3F043-3F6C-4B71-8439-754991FB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2AD05-2744-4D61-8147-74BD7323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10BC4-A7C3-4904-A483-315D1AC3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6E3AE-85C6-4B73-99E7-89013E70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74491-CA7D-487D-9FBF-72CDF11B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4E11F-8CC9-4C2A-8DE1-EEC969FB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B5E-1231-447A-AB74-D96C69C7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37D30-2BA0-4FAB-BA9E-0AB38331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5E502-3554-473B-8F92-AD66CD09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E495C-5657-41AC-8425-B73C9C7E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2ABAD-D273-437B-BDA0-BAB2D10F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CFBEA-9879-4847-BEB2-DE6C5B37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7C52D-3F13-4559-A4FB-DBC15DCB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C6254-34D5-424B-961E-5E5ACD98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1D2B1-AB07-4174-9941-0BD046B0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B849F-ABB6-4E11-921B-63978164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679CB-74BA-4088-9AC9-55E1BA2B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761-6AAF-433D-84F5-8D8138EE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4D935-C6F2-48BE-8581-9724B4B9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B662B-F6BB-43B9-B258-944B1A97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E53F7-8127-46B7-B8A5-C578AF21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956D0-6040-4195-AEE4-4078DA84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9AEFE-5960-49F9-AC20-67E62378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9C8B0-95C4-48D9-8235-2C2AB67D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5AEAB-6C0C-4120-9E1D-D767D334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B967B-B2A9-4FFB-AEEA-5188D419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C4D04-06E3-44EB-9C16-7390AD65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C8E01-E6E1-4380-B73F-8BFAE5FE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32C7-C52B-45AC-9EFE-603AE89E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E067C-AF7F-4B93-9EE8-356407F6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B9B-665B-4A51-992E-D063FD40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822-81B9-4F61-B879-D2935EE6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8AB-C666-4D59-B29A-83DE67D5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656E-ABA6-41D9-8A2D-F0D4C3695F56}" type="slidenum">
              <a:rPr b="0" lang="en-CA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FE4D-FA8D-459F-A00E-F136135AADB6}" type="slidenum">
              <a:rPr b="0" lang="en-CA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BCB9-BFE7-42DB-B592-055B0CF23832}" type="slidenum">
              <a:rPr b="0" lang="en-CA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7F8C-784B-423D-A8B8-05E6332DF0B0}" type="slidenum">
              <a:rPr b="0" lang="en-CA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EA53-9456-4FF7-8F6F-D9D2A4C583AB}" type="slidenum">
              <a:rPr b="0" lang="en-CA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arandgame.files.wordpress.com/2008/06/congress-of-vienna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upload.wikimedia.org/wikipedia/commons/a/ab/Ferdinand_I%3B_Keizer_van_Oostenrijk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Flag_of_Austri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Title 1" descr=""/>
          <p:cNvPicPr/>
          <p:nvPr/>
        </p:nvPicPr>
        <p:blipFill>
          <a:blip r:embed="rId3"/>
          <a:stretch/>
        </p:blipFill>
        <p:spPr>
          <a:xfrm>
            <a:off x="3352680" y="993600"/>
            <a:ext cx="5389560" cy="28832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357720" y="4285800"/>
            <a:ext cx="5114880" cy="110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rebuchet MS"/>
              </a:rPr>
              <a:t>By: Victoria and Shandr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Due to the fact that the emperor had very strong conservative views, liberalism activities would be immediately stifl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The emperors laws were organized is a way that showed his fear of liberalism as well as nationalis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iberalism was at its peak in the 1848 revolution, when civil liberty and written constitution were key demands of the revolutionary move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Austrian government was threatened deeply by nationalism of its provinces especially the slav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This is because the country is made up of several nationalities which could cause conflict between provinc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This put fear into the government because if conflict were to arise, then the country could very well be torn apart due to this nationalis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Austria had no overseas colon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It did however have many provinces that it controlled throughout Europe itself such as Poland, Croatia, Romania, and Slovak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Picture 3" descr="austhung.gif"/>
          <p:cNvPicPr/>
          <p:nvPr/>
        </p:nvPicPr>
        <p:blipFill>
          <a:blip r:embed="rId2"/>
          <a:stretch/>
        </p:blipFill>
        <p:spPr>
          <a:xfrm>
            <a:off x="1428840" y="3357720"/>
            <a:ext cx="45813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They had very extensive railway syste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3" descr="800px-Hungarian_railway_system.svg.png"/>
          <p:cNvPicPr/>
          <p:nvPr/>
        </p:nvPicPr>
        <p:blipFill>
          <a:blip r:embed="rId2"/>
          <a:stretch/>
        </p:blipFill>
        <p:spPr>
          <a:xfrm>
            <a:off x="0" y="2071800"/>
            <a:ext cx="76201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In 1843, the population had risen to about 37.5 million people which was 40% more than in 179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This is important because the country had a sufficient labour for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Railways were now extensive enough that they could transport people from town to town on daily busin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This also would improve the transportation of goods from city to c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Metternich_by_Lawrence.jpeg"/>
          <p:cNvPicPr/>
          <p:nvPr/>
        </p:nvPicPr>
        <p:blipFill>
          <a:blip r:embed="rId1"/>
          <a:stretch/>
        </p:blipFill>
        <p:spPr>
          <a:xfrm>
            <a:off x="6715080" y="1000080"/>
            <a:ext cx="1928880" cy="2552760"/>
          </a:xfrm>
          <a:prstGeom prst="rect">
            <a:avLst/>
          </a:prstGeom>
          <a:ln w="0">
            <a:noFill/>
          </a:ln>
        </p:spPr>
      </p:pic>
      <p:pic>
        <p:nvPicPr>
          <p:cNvPr id="256" name="Title 1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28760" y="1643040"/>
            <a:ext cx="723888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rebuchet MS"/>
              </a:rPr>
              <a:t>Metternich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c6c6c"/>
                </a:solidFill>
                <a:latin typeface="Trebuchet MS"/>
              </a:rPr>
              <a:t>Lead the Congress of Vienna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c6c6c"/>
                </a:solidFill>
                <a:latin typeface="Trebuchet MS"/>
              </a:rPr>
              <a:t>Restored the old regime of monarchies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c6c6c"/>
                </a:solidFill>
                <a:latin typeface="Trebuchet MS"/>
              </a:rPr>
              <a:t>Had the ideas for legitimacy of rulers and also for balance of power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6c6c6c"/>
                </a:solidFill>
                <a:latin typeface="Trebuchet MS"/>
              </a:rPr>
              <a:t>Minister for Austria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Economic depression due to rise in food prices from poor harve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1848 Revolution breaks out in Vien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All parts of the empire were striving for autonomy and independen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Austria wanted a representative govern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Metternich resigned and universal male suffrage was pass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Prince Felix con Schwarzenberg replaced Metternich and convinced Ferdinand I to abdicate and leave the throne to his son Franz Josef 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Austria-Hungary had 3 armies, the Austria and Hungary armies and there was also an imperial arm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Although they had the capability to mobilize about 2 million men, that was a relatively small amount compared to other countries like Fran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They used propaganda to expand the size of the army during times of need during wa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"1848 Timeline." </a:t>
            </a:r>
            <a:r>
              <a:rPr b="0" i="1" lang="en-CA" sz="1600" spc="-1" strike="noStrike">
                <a:solidFill>
                  <a:srgbClr val="000000"/>
                </a:solidFill>
                <a:latin typeface="Trebuchet MS"/>
              </a:rPr>
              <a:t>Chico Unified School District - CUSD Main - CUSD Homepage - CUSD Homepage</a:t>
            </a: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. Web. 17 Feb. 2010. &lt;http://www.cusd.chico.k12.ca.us/~bsilva/projects/revs/1848time.html&gt;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"Austria - Domestic Policies." </a:t>
            </a:r>
            <a:r>
              <a:rPr b="0" i="1" lang="en-CA" sz="1600" spc="-1" strike="noStrike">
                <a:solidFill>
                  <a:srgbClr val="000000"/>
                </a:solidFill>
                <a:latin typeface="Trebuchet MS"/>
              </a:rPr>
              <a:t>Country Data</a:t>
            </a: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. Web. 17 Feb. 2010. &lt;http://www.country-data.com/cgi-bin/query/r-788.html&gt;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"Austria - The The Congress of Vienna." </a:t>
            </a:r>
            <a:r>
              <a:rPr b="0" i="1" lang="en-CA" sz="1600" spc="-1" strike="noStrike">
                <a:solidFill>
                  <a:srgbClr val="000000"/>
                </a:solidFill>
                <a:latin typeface="Trebuchet MS"/>
              </a:rPr>
              <a:t>Country Studies</a:t>
            </a: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. Web. 17 Feb. 2010. &lt;http://countrystudies.us/austria/20.htm&gt;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"Congress of Vienna -." </a:t>
            </a:r>
            <a:r>
              <a:rPr b="0" i="1" lang="en-CA" sz="1600" spc="-1" strike="noStrike">
                <a:solidFill>
                  <a:srgbClr val="000000"/>
                </a:solidFill>
                <a:latin typeface="Trebuchet MS"/>
              </a:rPr>
              <a:t>Wikipedia, the free encyclopedia</a:t>
            </a: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. Web. 16 Feb. 2010. &lt;http://en.wikipedia.org/wiki/Congress_of_Vienna&gt;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"Counts, Dukes, Kings &amp; Emperors: Rulers of Austria." </a:t>
            </a:r>
            <a:r>
              <a:rPr b="0" i="1" lang="en-CA" sz="1600" spc="-1" strike="noStrike">
                <a:solidFill>
                  <a:srgbClr val="000000"/>
                </a:solidFill>
                <a:latin typeface="Trebuchet MS"/>
              </a:rPr>
              <a:t>Austria Sightseeing Guide &amp; Travel Information: TourMyCountry.com</a:t>
            </a: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. Web. 17 Feb. 2010. &lt;http://www.tourmycountry.com/austria/monarchy.htm&gt;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Duiker, William J. </a:t>
            </a:r>
            <a:r>
              <a:rPr b="0" i="1" lang="en-CA" sz="1600" spc="-1" strike="noStrike">
                <a:solidFill>
                  <a:srgbClr val="000000"/>
                </a:solidFill>
                <a:latin typeface="Trebuchet MS"/>
              </a:rPr>
              <a:t>World history</a:t>
            </a: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. 4th ed. Vol. Comprehensive. Belmont, CA: Thomson/Wadsworth, 2004. Print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"File:Hungarian railway system.svg -." </a:t>
            </a:r>
            <a:r>
              <a:rPr b="0" i="1" lang="en-CA" sz="1600" spc="-1" strike="noStrike">
                <a:solidFill>
                  <a:srgbClr val="000000"/>
                </a:solidFill>
                <a:latin typeface="Trebuchet MS"/>
              </a:rPr>
              <a:t>Wikipedia, the free encyclopedia</a:t>
            </a: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. Web. 17 Feb. 2010. &lt;http://en.wikipedia.org/wiki/File:Hungarian_railway_system.svg&gt;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"Metternich." </a:t>
            </a:r>
            <a:r>
              <a:rPr b="0" i="1" lang="en-CA" sz="1600" spc="-1" strike="noStrike">
                <a:solidFill>
                  <a:srgbClr val="000000"/>
                </a:solidFill>
                <a:latin typeface="Trebuchet MS"/>
              </a:rPr>
              <a:t>World History</a:t>
            </a:r>
            <a:r>
              <a:rPr b="0" lang="en-CA" sz="1600" spc="-1" strike="noStrike">
                <a:solidFill>
                  <a:srgbClr val="000000"/>
                </a:solidFill>
                <a:latin typeface="Trebuchet MS"/>
              </a:rPr>
              <a:t>. Web. 17 Feb. 2010. &lt;http://www.hyperhistory.com/online_n2/people_n2/persons6_n2/metternich.html&gt;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rebuchet MS"/>
              </a:rPr>
              <a:t>"Causes of World War One." </a:t>
            </a:r>
            <a:r>
              <a:rPr b="0" i="1" lang="en-CA" sz="2400" spc="-1" strike="noStrike">
                <a:solidFill>
                  <a:srgbClr val="000000"/>
                </a:solidFill>
                <a:latin typeface="Trebuchet MS"/>
              </a:rPr>
              <a:t>History on the Net Main Page</a:t>
            </a:r>
            <a:r>
              <a:rPr b="0" lang="en-CA" sz="2400" spc="-1" strike="noStrike">
                <a:solidFill>
                  <a:srgbClr val="000000"/>
                </a:solidFill>
                <a:latin typeface="Trebuchet MS"/>
              </a:rPr>
              <a:t>. Web. 17 Feb. 2010. &lt;http://www.historyonthenet.com/WW1/causes.htm&gt;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rebuchet MS"/>
              </a:rPr>
              <a:t>"Austrian Imperial Army." </a:t>
            </a:r>
            <a:r>
              <a:rPr b="0" i="1" lang="en-CA" sz="2400" spc="-1" strike="noStrike">
                <a:solidFill>
                  <a:srgbClr val="000000"/>
                </a:solidFill>
                <a:latin typeface="Trebuchet MS"/>
              </a:rPr>
              <a:t>Spartacus Educational - Home Page</a:t>
            </a:r>
            <a:r>
              <a:rPr b="0" lang="en-CA" sz="2400" spc="-1" strike="noStrike">
                <a:solidFill>
                  <a:srgbClr val="000000"/>
                </a:solidFill>
                <a:latin typeface="Trebuchet MS"/>
              </a:rPr>
              <a:t>. Web. 16 Feb. 2010. &lt;http://www.spartacus.schoolnet.co.uk/FWWaustriaA.htm&gt;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rebuchet MS"/>
              </a:rPr>
              <a:t>"RP's History Online - Industrialization." </a:t>
            </a:r>
            <a:r>
              <a:rPr b="0" i="1" lang="en-CA" sz="2400" spc="-1" strike="noStrike">
                <a:solidFill>
                  <a:srgbClr val="000000"/>
                </a:solidFill>
                <a:latin typeface="Trebuchet MS"/>
              </a:rPr>
              <a:t>Hlavní strana - Radio Praha</a:t>
            </a:r>
            <a:r>
              <a:rPr b="0" lang="en-CA" sz="2400" spc="-1" strike="noStrike">
                <a:solidFill>
                  <a:srgbClr val="000000"/>
                </a:solidFill>
                <a:latin typeface="Trebuchet MS"/>
              </a:rPr>
              <a:t>. Web. 16 Feb. 2010. &lt;http://archiv.radio.cz/history/history08.html&gt;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rebuchet MS"/>
              </a:rPr>
              <a:t>"WHKMLA : History of Austria : Foreign Policy, 1815-1848." </a:t>
            </a:r>
            <a:r>
              <a:rPr b="0" i="1" lang="en-CA" sz="2400" spc="-1" strike="noStrike">
                <a:solidFill>
                  <a:srgbClr val="000000"/>
                </a:solidFill>
                <a:latin typeface="Trebuchet MS"/>
              </a:rPr>
              <a:t>Zentrale f</a:t>
            </a:r>
            <a:r>
              <a:rPr b="0" lang="en-CA" sz="2400" spc="-1" strike="noStrike">
                <a:solidFill>
                  <a:srgbClr val="000000"/>
                </a:solidFill>
                <a:latin typeface="Trebuchet MS"/>
              </a:rPr>
              <a:t>. Web. 17 Feb. 2010. &lt;http://www.zum.de/whkmla/region/germany/au181548for.html&gt;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congress-of-vien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29200" y="4857840"/>
            <a:ext cx="2857680" cy="1859040"/>
          </a:xfrm>
          <a:prstGeom prst="rect">
            <a:avLst/>
          </a:prstGeom>
          <a:ln w="0">
            <a:noFill/>
          </a:ln>
        </p:spPr>
      </p:pic>
      <p:pic>
        <p:nvPicPr>
          <p:cNvPr id="224" name="Title 1" descr=""/>
          <p:cNvPicPr/>
          <p:nvPr/>
        </p:nvPicPr>
        <p:blipFill>
          <a:blip r:embed="rId3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75800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rebuchet MS"/>
              </a:rPr>
              <a:t>Took place in Vienna of Austria after Napoleons rule to put Europe back together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rebuchet MS"/>
              </a:rPr>
              <a:t>Emerged as one of the strongest powers in Europe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rebuchet MS"/>
              </a:rPr>
              <a:t>Regained all of the land that it had before Napoleon's reign, also gained more land from Russia and Italy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Trebuchet MS"/>
              </a:rPr>
              <a:t>The Holy Roman Empire had collapsed and</a:t>
            </a:r>
            <a:r>
              <a:rPr b="0" lang="en-US" sz="2700" spc="-1" strike="noStrike">
                <a:solidFill>
                  <a:srgbClr val="000000"/>
                </a:solidFill>
                <a:latin typeface="Trebuchet MS"/>
              </a:rPr>
              <a:t> formed the German Confederation which was lead by Austria and Prussia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28760" y="1714680"/>
            <a:ext cx="72388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Balance of power in Europe was made uneven in Europe after the unification of German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Austria was considered one of the stronger Countr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Franz I of Austria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806-183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erdinand I 1835-1848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ranz Josef I 1848-1916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ll considered legitimate rulers due to the fact that they are all under the line of the Habsburg Dynasty which extends all the way back to 1273 with Rudolf 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3" descr="Ferdinand_I;_Keizer_van_Oostenrij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43720" y="4214880"/>
            <a:ext cx="1928520" cy="2469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franz3-00.jpg"/>
          <p:cNvPicPr/>
          <p:nvPr/>
        </p:nvPicPr>
        <p:blipFill>
          <a:blip r:embed="rId4"/>
          <a:stretch/>
        </p:blipFill>
        <p:spPr>
          <a:xfrm>
            <a:off x="857160" y="4643280"/>
            <a:ext cx="1354320" cy="20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rebuchet MS"/>
              </a:rPr>
              <a:t>Dual Alliance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c6c6c"/>
                </a:solidFill>
                <a:latin typeface="Trebuchet MS"/>
              </a:rPr>
              <a:t>Germany and Austria promised to protect each other against Russi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rebuchet MS"/>
              </a:rPr>
              <a:t>Austro-Serbian Alliance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c6c6c"/>
                </a:solidFill>
                <a:latin typeface="Trebuchet MS"/>
              </a:rPr>
              <a:t>Alliance with Serbia to keep Russia from gaining control of i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rebuchet MS"/>
              </a:rPr>
              <a:t>Triple Alliance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6c6c6c"/>
                </a:solidFill>
                <a:latin typeface="Trebuchet MS"/>
              </a:rPr>
              <a:t>Austria and Germany made an alliance with Italy to stop it from taking sides with Russia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560"/>
            <a:ext cx="6329520" cy="40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700" spc="-1" strike="noStrike">
                <a:solidFill>
                  <a:srgbClr val="000000"/>
                </a:solidFill>
                <a:latin typeface="Trebuchet MS"/>
              </a:rPr>
              <a:t>Returned to a monarchy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700" spc="-1" strike="noStrike">
                <a:solidFill>
                  <a:srgbClr val="000000"/>
                </a:solidFill>
                <a:latin typeface="Trebuchet MS"/>
              </a:rPr>
              <a:t>Dual monarchy established with Hungary in 1876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700" spc="-1" strike="noStrike">
                <a:solidFill>
                  <a:srgbClr val="000000"/>
                </a:solidFill>
                <a:latin typeface="Trebuchet MS"/>
              </a:rPr>
              <a:t>Each part had its own </a:t>
            </a: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legislature, constitution, and capital but had one emperor, Franz Josef I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3" descr="f677824a.jpg"/>
          <p:cNvPicPr/>
          <p:nvPr/>
        </p:nvPicPr>
        <p:blipFill>
          <a:blip r:embed="rId2"/>
          <a:stretch/>
        </p:blipFill>
        <p:spPr>
          <a:xfrm>
            <a:off x="6000840" y="2786040"/>
            <a:ext cx="28573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Metternich was the main person at the Congress of Vienna and at his suggestion Carlsbad congress issued the Carlsbad decre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These included dispatched secret police to stifle democratic nationalists and press censorshi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Metternich sent many troops out to suppress revol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Austria supported French troops being sent by the congress of Verona to calm unrest in Spain and restore the old regime the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Although Metternich had the high profile, it was really the emperor being conservative and his dislike for the ideas of the French Revolution that made the Domestic Polic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A new civil and penal code was issued in the early 19</a:t>
            </a:r>
            <a:r>
              <a:rPr b="0" lang="en-CA" sz="26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 century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rebuchet MS"/>
              </a:rPr>
              <a:t>Politics and culture was kept under close watch to keep from spread of nationalism and liberalis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2" name="Content Placeholder 3" descr="dualmona.gif"/>
          <p:cNvPicPr/>
          <p:nvPr/>
        </p:nvPicPr>
        <p:blipFill>
          <a:blip r:embed="rId2"/>
          <a:stretch/>
        </p:blipFill>
        <p:spPr>
          <a:xfrm>
            <a:off x="214200" y="1500120"/>
            <a:ext cx="714384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3:56:30Z</dcterms:created>
  <dc:creator>Victoria</dc:creator>
  <dc:description/>
  <dc:language>en-US</dc:language>
  <cp:lastModifiedBy>ripkensa</cp:lastModifiedBy>
  <dcterms:modified xsi:type="dcterms:W3CDTF">2010-02-19T15:32:55Z</dcterms:modified>
  <cp:revision>39</cp:revision>
  <dc:subject/>
  <dc:title>Austria</dc:title>
</cp:coreProperties>
</file>